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15A26-F573-4C35-9B3C-966B3990F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30E0C-1F14-4236-A68C-65DEADB93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F4220-CD6A-48D8-BC2A-C2055D350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EFB6D-1612-40A3-9699-5BB0FCC74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07EF2-CF32-477F-B6BB-96350C46B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1C97E-7F72-4DD3-9AE7-6975DF015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818A7-3D86-4D37-8739-6E13E7FFB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B34F9-9D30-4E78-98C6-960BF8818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2CBB3-C333-4165-AE5C-F9C3B3335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470BB-605E-49AD-A135-2D57A708E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091B8-3520-49AF-9CD1-58B1F7090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BBB67-6BC3-44A8-A3AD-73BF96E04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2381-02B0-4D33-905C-75BC0E016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590920" y="1143000"/>
            <a:ext cx="3781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esiunea iunie-iuli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8"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9</cp:lastModifiedBy>
  <dcterms:modified xsi:type="dcterms:W3CDTF">2012-06-18T11:04:20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